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ct" ContentType="image/x-pict"/>
  <Override PartName="/ppt/media/image13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jpeg" ContentType="image/jpeg"/>
  <Override PartName="/ppt/media/image5.pct" ContentType="image/x-pict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F26C-22B2-431F-B6F2-531C16FB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9DDB-F6A2-40B6-8954-44079BEE46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33A9-C6CF-4D64-84CB-BEBE223A6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5A75-C72E-43B7-B1E0-F0A7ADBF8F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0D30-1DCF-4EB0-B12B-6DD4CC1E58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C6BC-E4C1-4862-9DEB-B46EA12D0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D338-5D2B-47D0-AB6C-F30F75790B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826D-F3A5-4E93-8E96-56A266457E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9D97-C145-4187-B34B-C8FB22508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EE5B-B994-449A-8745-0AA91236B5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0C6A-3A54-45AA-8F38-227C2A5A16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382F-91AF-4717-B353-619A918BBF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279D-A9C6-402A-84B8-B47D3BAF85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90CF-8464-481B-B937-EF18CFDF9D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C2FE-2743-423B-8C40-F2BD391F79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DF0F-3847-4399-AA61-A0C70A3B69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4E49-1CD8-40A3-AA0A-2C8D86CC9D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D76B-A3B3-490B-B93C-0686BC2E5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8193-C6EE-42E7-8794-40FB7B5C76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F24F-2B35-4446-8BD6-A39622F194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4EF7-331F-494F-A125-9CB796FFA6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29AA-545F-4F9F-BA48-BC4F4FC421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AA83-5AAC-4F6D-87D8-7DC31A6241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3F3-5F82-4BD1-8F0C-539B3C1470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C66F-A255-4C1E-8BB2-ECDCF1247D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10B4-D85C-4C36-9553-CC92FECFF4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2A0E-6FBC-41D8-A5D4-EF7F6507C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7205-2BA6-4650-A66D-5CC18256C9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3F25-96D1-4270-87D0-275B4BE8AF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0E21-B274-4E01-949E-6C86B447AE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08A9-B3FB-4785-8292-323AD2B688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FC1A-98BB-431F-B485-D1B3D075C4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AF45-AB55-4B67-8DE8-ECB9B7FBF1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AF7C-FDFA-401B-B3DF-7D11B7905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846-49A4-41FD-BF6F-2F6102C6CE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45C4-6F2D-4CFF-BBD3-61F5186C7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24D7-447E-4FD2-B2C6-83F473B86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4ECB-3D30-4E1D-8882-FB8A57273F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202-E031-40EB-BF52-BBA0F36D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D39-098C-4FEE-A05A-E200966D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761-64F7-44AF-8127-E9129FFD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9F4-D20A-4C33-86C3-E3A237FC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BA7-3B15-4A79-92F7-087C81A3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E68-920B-4872-AA77-9E342031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482-7BDB-4C79-A1E8-70C0DEBF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B84-FD26-4AB5-964C-B976D54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CD1-DC87-4D03-921E-55ABA05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955-A855-4F57-94D8-DDF9E35C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E4B-82A3-4260-B230-C11A47D4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6D4-AF29-4982-8E09-45FEA87C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C7B0-3253-4613-ADA8-EF6FB216EC36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Picture 4" descr="Photo 20"/>
          <p:cNvPicPr/>
          <p:nvPr/>
        </p:nvPicPr>
        <p:blipFill>
          <a:blip r:embed="rId2"/>
          <a:stretch/>
        </p:blipFill>
        <p:spPr>
          <a:xfrm>
            <a:off x="1143000" y="1600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hoto 21"/>
          <p:cNvPicPr/>
          <p:nvPr/>
        </p:nvPicPr>
        <p:blipFill>
          <a:blip r:embed="rId3"/>
          <a:stretch/>
        </p:blipFill>
        <p:spPr>
          <a:xfrm>
            <a:off x="4952880" y="16002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hoto 22"/>
          <p:cNvPicPr/>
          <p:nvPr/>
        </p:nvPicPr>
        <p:blipFill>
          <a:blip r:embed="rId4"/>
          <a:stretch/>
        </p:blipFill>
        <p:spPr>
          <a:xfrm>
            <a:off x="2971800" y="358128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m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STS- Whenever you see lists containing 3 or more items of anything in a sentence, you must place a comma between each item.  Insert commas where needed in the following sent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ul Mark Brett and Derek prepared served and ate some food that was delicious and healthy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- Adjectives and Introduc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JECTIVES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you see 2 or more adjectives before a noun, you must place a comma between the adjectiv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 beautiful young reindeer is d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352680" y="3538440"/>
            <a:ext cx="3124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S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comma should follow any phrase or word that introduces a sentences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n this course, students learn how to master the ACT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Eventually, Jennifer scored a 36 on the ACT English Te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5" descr="images.jpeg"/>
          <p:cNvPicPr/>
          <p:nvPr/>
        </p:nvPicPr>
        <p:blipFill>
          <a:blip r:embed="rId2"/>
          <a:stretch/>
        </p:blipFill>
        <p:spPr>
          <a:xfrm>
            <a:off x="5257800" y="1957320"/>
            <a:ext cx="18288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s- Removable Phr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able Phrases-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Commas should surround a non-essential, modifying phras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y dad,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who is over 65 years old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, is reti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you remove who is over 65 years old, it does NOT impact the central meaning of the sentence.  The phrase provides additional information, but it is NOT essentia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s- Essential Modifying Phr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as should NOT surround an essential modifying phra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ople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who are over 65 years ol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re often reti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this case, if you remove who are over 65 years old, you would be left with a sentence that has a much different mean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5" descr="images-1.jpeg"/>
          <p:cNvPicPr/>
          <p:nvPr/>
        </p:nvPicPr>
        <p:blipFill>
          <a:blip r:embed="rId2"/>
          <a:stretch/>
        </p:blipFill>
        <p:spPr>
          <a:xfrm>
            <a:off x="3352680" y="2971800"/>
            <a:ext cx="15876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mages.jpeg"/>
          <p:cNvPicPr/>
          <p:nvPr/>
        </p:nvPicPr>
        <p:blipFill>
          <a:blip r:embed="rId3"/>
          <a:stretch/>
        </p:blipFill>
        <p:spPr>
          <a:xfrm>
            <a:off x="5638680" y="2971800"/>
            <a:ext cx="1676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LA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EPENDENT CLAUSE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complete thought that contains at least a subject and a ver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Independent claus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The dog a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Joe failed the assign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Sinclair loves wooden b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5" descr="images.jpeg"/>
          <p:cNvPicPr/>
          <p:nvPr/>
        </p:nvPicPr>
        <p:blipFill>
          <a:blip r:embed="rId2"/>
          <a:stretch/>
        </p:blipFill>
        <p:spPr>
          <a:xfrm>
            <a:off x="6019920" y="4114800"/>
            <a:ext cx="1803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la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PENDENT CLAUSES-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 incomplete thought composed of at least a subject and a verb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Although we studied for seventeen hours straigh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When you look in the cabinet beneath the microwav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Because he was a fabulous musicia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If you finish your homework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lons (; &amp; :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micolons and colons are often used as incorrect answers on the English Test, so you must understand how to use them properl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MICOLONS (;) can be used to replace a period when 2 independent clauses are closely rela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You don’t study the ACT because it’s fun.  You study the ACT because you want to go to college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OR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You don’t study the ACT because it’s fun; you study the ACT because you want to go to college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oth versions are correct.  When you see a semicolon, make sure it separates 2 independent clauses; otherwise, it is incorr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lons (: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NS are generally used to introduce a li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We ate a magnificent dinner</a:t>
            </a:r>
            <a:r>
              <a:rPr b="0" i="1" lang="en-US" sz="2800" spc="-1" strike="noStrike">
                <a:solidFill>
                  <a:srgbClr val="99090e"/>
                </a:solidFill>
                <a:latin typeface="Verdana"/>
              </a:rPr>
              <a:t>: lobster, shrimp, steak, and rib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- Make sure that you DO NOT confuse the colon with the semicolon as they are obviously used for very different purpose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CT English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330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t’s vs. 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’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abbreviation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 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the possessive form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Plug in </a:t>
            </a:r>
            <a:r>
              <a:rPr b="0" i="1" lang="en-US" sz="2800" spc="-1" strike="noStrike">
                <a:solidFill>
                  <a:srgbClr val="ff7a2c"/>
                </a:solidFill>
                <a:latin typeface="Verdana"/>
              </a:rPr>
              <a:t>it 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see if it makes sens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’re vs. their vs. t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y’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abbreviation for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they are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the possessive form of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 they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indicates location or used as expleti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They’re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a really nice coupl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Their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dog is very laz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There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are no paper towels lef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78168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ammatical Agreeme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mmatical disagreement occurs when the words within a sentence d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well togeth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onoun should match the antecedent/subjec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a2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a2c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eam ru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p the hi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</a:t>
            </a:r>
            <a:r>
              <a:rPr b="0" lang="en-US" sz="2000" spc="-1" strike="noStrike">
                <a:solidFill>
                  <a:srgbClr val="ff7f2e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eam ru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p the hi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 out of money, so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nt out of busine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company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 out of money, so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i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ent out of business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 pay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 won’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their  scor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s pa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n’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their scor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 pay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he or she won’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his or her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or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erb Ten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920" y="3657600"/>
            <a:ext cx="3504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e want you to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earc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, identify, and eliminate incorrect answ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81480" y="3657240"/>
            <a:ext cx="3353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 No Chan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. be sear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. have search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. search f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990720" y="1752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ealing with lists of verbs, make sure that the verbs are of the </a:t>
            </a:r>
            <a:r>
              <a:rPr b="1" lang="en-US" sz="2400" spc="-1" strike="noStrike">
                <a:solidFill>
                  <a:srgbClr val="99090e"/>
                </a:solidFill>
                <a:latin typeface="Arial"/>
              </a:rPr>
              <a:t>same tense and consisten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may  be helpful to remove the other verbs from the list to help eliminate wrong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uess what Mr. Grybash is thinking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Content Placeholder 6" descr="IMG00083-20090413-0946.jpg"/>
          <p:cNvPicPr/>
          <p:nvPr/>
        </p:nvPicPr>
        <p:blipFill>
          <a:blip r:embed="rId2"/>
          <a:stretch/>
        </p:blipFill>
        <p:spPr>
          <a:xfrm>
            <a:off x="990720" y="2357280"/>
            <a:ext cx="3504960" cy="3205440"/>
          </a:xfrm>
          <a:prstGeom prst="rect">
            <a:avLst/>
          </a:prstGeom>
          <a:ln w="0">
            <a:noFill/>
          </a:ln>
        </p:spPr>
      </p:pic>
      <p:pic>
        <p:nvPicPr>
          <p:cNvPr id="169" name="Content Placeholder 7" descr="IMG00084-20090413-0947.jpg"/>
          <p:cNvPicPr/>
          <p:nvPr/>
        </p:nvPicPr>
        <p:blipFill>
          <a:blip r:embed="rId3"/>
          <a:stretch/>
        </p:blipFill>
        <p:spPr>
          <a:xfrm>
            <a:off x="5089680" y="2395440"/>
            <a:ext cx="2444760" cy="3256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nglish Guessing Strateg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 I do if I have absolutely no idea what is going on in a certain ques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y the famous GOSH strategy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this strategy only for the English portion of the A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5" descr="Photo 4"/>
          <p:cNvPicPr/>
          <p:nvPr/>
        </p:nvPicPr>
        <p:blipFill>
          <a:blip r:embed="rId2"/>
          <a:stretch/>
        </p:blipFill>
        <p:spPr>
          <a:xfrm>
            <a:off x="6553080" y="3809880"/>
            <a:ext cx="168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4" descr="GOSH"/>
          <p:cNvPicPr/>
          <p:nvPr/>
        </p:nvPicPr>
        <p:blipFill>
          <a:blip r:embed="rId1"/>
          <a:stretch/>
        </p:blipFill>
        <p:spPr>
          <a:xfrm>
            <a:off x="1781280" y="0"/>
            <a:ext cx="57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bject vs. Objec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nouns change when used in different cases (subject, object, or possesi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niversity of Illinois accepted Justin, Jim, and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almost sounds correct BUT it’s not.The sentence is properly writt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niversity of Illinois accepted Justin, Jim, and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me</a:t>
            </a: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University of Illinois accepted 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University of Illinois accepted 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can you expect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t equals 9 minutes per passag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841760" y="1765440"/>
            <a:ext cx="20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856880" y="2303640"/>
            <a:ext cx="1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a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830600" y="2819520"/>
            <a:ext cx="38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Questions per p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9051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830960" y="3352680"/>
            <a:ext cx="18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 it yourself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Justin, Jim, and ____ went to the University of Illinois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ag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omplete sentences AKA fragments are the most common sentence structure error. You will often see a sentence that is composed of only a </a:t>
            </a:r>
            <a:r>
              <a:rPr b="1" lang="en-US" sz="2400" spc="-1" strike="noStrike">
                <a:solidFill>
                  <a:srgbClr val="ff7f2e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ff7f2e"/>
                </a:solidFill>
                <a:latin typeface="Verdana"/>
              </a:rPr>
              <a:t>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can easily turn a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ause into an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ause by removing what we call the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handcuff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Because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the dog ate a bon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^handcuff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frag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dog ate a bon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</a:t>
            </a:r>
            <a:r>
              <a:rPr b="0" lang="en-US" sz="2600" spc="-1" strike="noStrike">
                <a:solidFill>
                  <a:srgbClr val="ff7f2e"/>
                </a:solidFill>
                <a:latin typeface="Verdana"/>
              </a:rPr>
              <a:t>is grammaticall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correc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TIP: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If a sentence seems incomplete, it is potentially a fragment.  The answer choices often contain handcuffs, commas or semicolons in different location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2209680" y="2437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 Spl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01_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mma splice attempts to use the following combin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ndependent (comma) Independent (period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EX: The dog ate his homework, Joe failed the assign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not a legal combo because it is missing a conjuction (and, or, or bu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un-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Run-on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entences are the same as comma splices without the comm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99090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90e"/>
                </a:solidFill>
                <a:latin typeface="Verdana"/>
              </a:rPr>
              <a:t>EX: The dog ate his homework Joe failed the assignmen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TIP: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 If a sentence seems excessively long, it is potentially a run-on or comma splice.  The answer choices often contain commas or semicolons in different location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splaced Mod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7f2e"/>
                </a:solidFill>
                <a:latin typeface="Verdana"/>
              </a:rPr>
              <a:t>misplaced modifi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a modifying phrase or word that has wandered too far away from what it is supposed to be modifying, leaving it confus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99090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Adam bought ice cream for his students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with chocolate sprink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the students have chocolate sprinkles or does the ice crea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2e"/>
                </a:solidFill>
                <a:latin typeface="Verdana"/>
              </a:rPr>
              <a:t>Correctly St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am bought ice cream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with chocolate sprink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his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TIP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isplaced modifier questions are the only usage/mechanics questions that frequently appear in a format other than the “NO CHANGE” format.  They may ask, “The best placement for the underlined portion would b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lpful Hints for During the Ex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up Stra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x and Brea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Advantage of the Bre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lpful Hints for Before the Ex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t We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t Something……Healt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ess in Lay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Fre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6705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5" descr="THE+END"/>
          <p:cNvPicPr/>
          <p:nvPr/>
        </p:nvPicPr>
        <p:blipFill>
          <a:blip r:embed="rId2"/>
          <a:stretch/>
        </p:blipFill>
        <p:spPr>
          <a:xfrm>
            <a:off x="1447920" y="2590920"/>
            <a:ext cx="59180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cep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m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postrop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l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arenthesis and Das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b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mmar and U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rammatical Agree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erb Ten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noun For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ifi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io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059200" y="137160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and Mecha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952880" y="25909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648320" y="2514600"/>
            <a:ext cx="33112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enc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entence Fra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un-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mma Spl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isplaces Modif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hifts in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9" descr="images-2.jpeg"/>
          <p:cNvPicPr/>
          <p:nvPr/>
        </p:nvPicPr>
        <p:blipFill>
          <a:blip r:embed="rId2"/>
          <a:stretch/>
        </p:blipFill>
        <p:spPr>
          <a:xfrm>
            <a:off x="3429000" y="4648320"/>
            <a:ext cx="1701720" cy="1041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mages.jpeg"/>
          <p:cNvPicPr/>
          <p:nvPr/>
        </p:nvPicPr>
        <p:blipFill>
          <a:blip r:embed="rId3"/>
          <a:stretch/>
        </p:blipFill>
        <p:spPr>
          <a:xfrm>
            <a:off x="5715000" y="4648320"/>
            <a:ext cx="1359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cepts Continue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hetorical Ski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y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5" descr="images-3.jpeg"/>
          <p:cNvPicPr/>
          <p:nvPr/>
        </p:nvPicPr>
        <p:blipFill>
          <a:blip r:embed="rId2"/>
          <a:stretch/>
        </p:blipFill>
        <p:spPr>
          <a:xfrm>
            <a:off x="3683160" y="2927520"/>
            <a:ext cx="41306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usage and mechanic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age/Mechanics problems test how well you can construct a functional sentence using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rules of punct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amm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tence structur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usage and mechanics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 1/2 of the problems in the English Test are Usage/Mechanics problems. Therefore, every rule that you learn is another tool in your toolbox that will help you solve more Usage/Mechanics problems and ultimately increase your English scor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Picture 5" descr="images-1.jpeg"/>
          <p:cNvPicPr/>
          <p:nvPr/>
        </p:nvPicPr>
        <p:blipFill>
          <a:blip r:embed="rId2"/>
          <a:stretch/>
        </p:blipFill>
        <p:spPr>
          <a:xfrm>
            <a:off x="1295280" y="4648320"/>
            <a:ext cx="1133640" cy="101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ages.jpeg"/>
          <p:cNvPicPr/>
          <p:nvPr/>
        </p:nvPicPr>
        <p:blipFill>
          <a:blip r:embed="rId3"/>
          <a:stretch/>
        </p:blipFill>
        <p:spPr>
          <a:xfrm>
            <a:off x="5638680" y="4648320"/>
            <a:ext cx="11239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, Commas, and more Comm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nctuation marks are used for more than sideways faces. ;) This next section will teach you the formal rules of punctuation that frequently appear on the ACT English tes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answer choices will have the same set of words with punctuation marks (sometimes different) in varying location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, Commas, and more Comm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s are meant to create natural pauses in a sentence. When used improperly (i.e. misplaced, too many, or not enough) commas disrupt the flow of the sentence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s are the most frequently tested punctuation on the AC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51:32Z</dcterms:created>
  <dc:creator>Buffalo Grove High School</dc:creator>
  <dc:description/>
  <dc:language>en-US</dc:language>
  <cp:lastModifiedBy>BGHS</cp:lastModifiedBy>
  <cp:lastPrinted>2009-04-13T13:39:36Z</cp:lastPrinted>
  <dcterms:modified xsi:type="dcterms:W3CDTF">2009-04-14T13:14:48Z</dcterms:modified>
  <cp:revision>37</cp:revision>
  <dc:subject/>
  <dc:title>ACT English </dc:title>
</cp:coreProperties>
</file>